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7F7-2F47-4812-ACB6-54AACC4C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8E2-F70D-4CCC-ACF0-9A9CC3F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CD3-BFCB-49CC-ABF0-1C9184D3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2B7-4F3A-4683-8ABA-C77FDC8B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0D47-47F0-4D57-BD00-EEE2D721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A13F-2CD2-4EB5-BBEE-A020FF7F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9083-820C-4A08-AFC2-3ABB8B41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3D71-EED1-4285-AD32-077DB28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B07E-036A-4EED-966B-F5E4CECD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760-280E-470F-B081-B3E6A56D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051F-6345-4D12-9549-15DCC3CF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049-80FA-4772-A922-8338DCB7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A26C-1311-40A9-BBB8-59AB0D9C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1EB7-6E07-4874-8E63-F88C96C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17C0-DB74-4850-9C78-D6972689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265C-238F-4708-A848-03789CA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C9BD-A361-4DDF-B972-62F0046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BE1-8708-4AFA-8A72-C9EF1CD7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4A2-7060-4263-AA8A-9FF2C8A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1F8-E374-4E2E-B5F2-2AC73710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EA8-446E-44B1-ABD3-12AFD525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8F1-56F0-48BC-B1DE-F20D3F1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0F7-0A17-4BAB-A7FF-6BD741B8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4EC-3C72-45A1-A7A0-0F27363F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4B3-730D-4C3D-96DB-4B0AC19AA066}" type="slidenum">
              <a:rPr b="0" lang="tr-TR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329-8B84-42B5-8BEE-22D5A21CC034}" type="slidenum">
              <a:rPr b="0" lang="tr-TR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600" spc="-1" strike="noStrike">
                <a:solidFill>
                  <a:srgbClr val="ffffcc"/>
                </a:solidFill>
                <a:latin typeface="Monotype Corsiva"/>
              </a:rPr>
              <a:t>MESLEKLER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3216240"/>
            <a:ext cx="8353440" cy="312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96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Veteriner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Hayvanların doktorudur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0" y="1484280"/>
          <a:ext cx="41036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484280"/>
                    <a:ext cx="4103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Aşçı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Yemek yapan usta kişilere aşçı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deriz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435640" y="1557360"/>
          <a:ext cx="37083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557360"/>
                    <a:ext cx="37083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Yazar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Gazetelerde yazı yazan,kitap yazan kişilerdir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427640" y="1557360"/>
          <a:ext cx="47163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4716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Asker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Ülkenin korunması için çalışırlar.Güvenliğimizi sağlarlar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51720" y="1484280"/>
          <a:ext cx="249228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1720" y="1484280"/>
                    <a:ext cx="24922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Şoför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Taşıtları kullanan kişilerdir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716360" y="1628640"/>
          <a:ext cx="442764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628640"/>
                    <a:ext cx="44276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Monotype Corsiva"/>
              </a:rPr>
              <a:t>BUNLARIN DIŞINDA BAZI MESLEKL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11280" y="1628640"/>
          <a:ext cx="35290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3529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884840" y="1600200"/>
          <a:ext cx="400824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4840" y="1600200"/>
                    <a:ext cx="400824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Monotype Corsiva"/>
              </a:rPr>
              <a:t>Müzisyen ve Fotoğrafç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484280"/>
          <a:ext cx="39592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39592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076720" y="1484280"/>
          <a:ext cx="3598920" cy="446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484280"/>
                    <a:ext cx="359892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Monotype Corsiva"/>
              </a:rPr>
              <a:t>Sekreter ve Psikol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1557360"/>
          <a:ext cx="71298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7129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Monotype Corsiva"/>
              </a:rPr>
              <a:t>Günümüzde kaybolmaya yüz tutan meslekler:Demircilik ve süslemecili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628640"/>
          <a:ext cx="39610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396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003640" y="1628640"/>
          <a:ext cx="3429000" cy="489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628640"/>
                    <a:ext cx="3429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907920"/>
          <a:ext cx="81946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1946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Monotype Corsiva"/>
              </a:rPr>
              <a:t>ÇEVREMİZDE EN ÇOK BULUNAN MESLEKL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Öğretmenlik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Toplumlarda, insanların eğitim ve öğretim işlerini yürütürle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Okullarda çalışırla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811760" y="1557360"/>
          <a:ext cx="4147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1760" y="1557360"/>
                    <a:ext cx="4147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Sizler hangi mesleği seçeceksiniz ,karar verebildiniz mi?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5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9144000" cy="69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Doktorluk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İnsanları sağlıklarına kavuştururla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Hastanelerde görev yaparla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4427280" cy="540072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Mühendislik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Teknik olan işleri yaparlar.Makine,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Endüstiri,gıda,çevre mühendisliği gibi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bölümleri vardı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0" y="1700280"/>
          <a:ext cx="41767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00280"/>
                    <a:ext cx="4176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Hemşir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Hastanelerde doktorlar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yardım ederle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İnsanların sağlıkların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kavuşmasına hizme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Monotype Corsiva"/>
              </a:rPr>
              <a:t>ederler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0" y="1916280"/>
          <a:ext cx="457200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5720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Mimar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Binaların sağlam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dayanıklı olması için gerekli ölçüm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leri yaparlar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3280" y="1628640"/>
          <a:ext cx="396108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28640"/>
                    <a:ext cx="396108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Pil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Uçakları kullanırlar.Çalış-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ma yerleri havali-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manlarıdır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4720" y="1628640"/>
          <a:ext cx="4859280" cy="43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628640"/>
                    <a:ext cx="4859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İş Adamları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aeaea"/>
                </a:solidFill>
                <a:latin typeface="Monotype Corsiva"/>
              </a:rPr>
              <a:t>Belli bir sanayi kuruluşunu yöneten kişilerdir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818240" y="1413000"/>
          <a:ext cx="432576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8240" y="1413000"/>
                    <a:ext cx="432576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20:11:26Z</dcterms:created>
  <dc:creator>AYDEMİR</dc:creator>
  <dc:description/>
  <dc:language>en-US</dc:language>
  <cp:lastModifiedBy>user</cp:lastModifiedBy>
  <dcterms:modified xsi:type="dcterms:W3CDTF">2006-12-20T14:40:08Z</dcterms:modified>
  <cp:revision>36</cp:revision>
  <dc:subject/>
  <dc:title>MESLEKL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